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0.png" ContentType="image/png"/>
  <Override PartName="/ppt/media/image18.png" ContentType="image/png"/>
  <Override PartName="/ppt/media/image8.png" ContentType="image/png"/>
  <Override PartName="/ppt/media/image14.jpeg" ContentType="image/jpeg"/>
  <Override PartName="/ppt/media/image9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10.png" ContentType="image/png"/>
  <Override PartName="/ppt/media/image1.jpeg" ContentType="image/jpeg"/>
  <Override PartName="/ppt/media/image15.jpeg" ContentType="image/jpeg"/>
  <Override PartName="/ppt/media/image26.wmf" ContentType="image/x-wmf"/>
  <Override PartName="/ppt/media/image16.jpeg" ContentType="image/jpeg"/>
  <Override PartName="/ppt/media/image17.png" ContentType="image/png"/>
  <Override PartName="/ppt/media/image19.wmf" ContentType="image/x-wmf"/>
  <Override PartName="/ppt/media/image29.png" ContentType="image/png"/>
  <Override PartName="/ppt/media/image21.jpeg" ContentType="image/jpeg"/>
  <Override PartName="/ppt/media/image22.wmf" ContentType="image/x-wmf"/>
  <Override PartName="/ppt/media/image2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7591-CDAC-49E0-B481-B9FF1C8387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AE38-E553-49CE-A848-386B86B3F3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F9C3-1DD2-4D53-B971-89BF7502EC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2D67-44BC-4DD3-888E-0CA9F437F5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8CEC-DBFC-4E54-9026-57F9F0F870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EED4-A7F4-4364-9DFC-0CC96C7769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6AE3-8972-4940-AB70-840170FF8B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31DA-76B7-4CF6-8C42-69EE6598B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35FB-D9A9-4EAA-98B0-C69F2C39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B23A5A-1D93-4D03-A5C4-DCD31138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EB6E3-463C-429D-ADEC-DD101E30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76AF9-69C5-4C77-AFD7-CF9AA124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6360C-4796-4EAD-B12E-BA7C1CBE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AF416-768C-44F5-B6B2-0BA33E3F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30E81-387E-4B3C-98E6-7CEF6222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48E3C-0738-4D77-B8AB-0359CED5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B4582E-D41C-4140-B2DB-2E0667E75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D6A72-629F-4B6C-B267-E65A9CFBA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812C9-528D-405C-A5FF-113C53368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F3F8-54C2-4028-A122-C2D256086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06047A-8203-4D83-8429-EE611822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3F74D5-C68F-4F48-89FB-864B0661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568C43-1197-4930-BF39-DC8EAA70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1318B4-8906-4646-B2E7-15F4AC36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002FA4-0143-48C0-B9C8-7A323B68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1E9F96-2F78-4F5D-B4F0-57DCB9B9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BACFF-F68A-4596-8B5A-274BB5F2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B642D2-C4C7-4224-B353-4D06D9BD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0F65C0-E19C-406A-A265-F2387620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F25A33-C48D-469F-99C9-B48734683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FEF0-9C46-4A2D-8956-9E5017C5D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9A94A-9A63-4DB8-B17F-55F6A0E53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210C-1150-4032-86E3-ADF34437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4DC2-A0C5-441E-ADF1-DE4B42DA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082E-D274-4962-B97F-1C8933F8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F35C-1EF4-4F9B-9342-762FB44D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53F3-6A51-4748-A54C-E681E6711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9D88-CAF6-480A-A22B-2825B802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30F5-91F7-43A1-996A-B8450FC1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A45B-0957-4CAD-AAF8-0EC85B6A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B305-A48F-4740-B73B-6D99C550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B704-614C-4689-BE7C-B0F8B212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67C7-1356-430E-89BB-5C481F8E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1AA9-110A-4760-BEF8-5CD79F596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00EA-1C46-40DB-9F00-7D0D42E76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05702-4EA7-4B5E-B88B-E9D6A61E1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B1FFE-7BF2-4DB0-8471-D8E8FE7F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962ED-1F1F-44F9-B8A2-F62475D0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FBA1F-C249-4437-94A0-D1F276AC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9540E-C232-481F-AF17-4E0C72B5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2130-D08B-4C1B-A073-8B59861D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0589A-639E-4700-A63F-00364CF1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B42F4-D4B4-46AB-B8F7-B04694A8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042CC-D522-426A-A9F0-A719C3F2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39187-027E-46A8-852F-29EF8FAE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30A01-9183-48A7-8311-24C81F54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24177-94E8-4686-B1DE-EB6FC5646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9079E-1856-4B55-BDE4-F58C8A5AF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4C94B-819D-477F-9208-368391729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E76C1-80FD-4505-85AB-4DD75B8F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FCAAB-7CA1-47E3-B4E7-6F23CF57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2D7C-A625-47AF-AC21-6D7275D4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6306B-E4DB-4E43-BAEF-74A00AD9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D5C68-B766-4685-9AA8-FA9D1E0C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656DC-398B-4900-93A8-63E9720C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D9B10-CDD5-4AC8-914F-D1996F00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F01D1-34C3-4F14-A09D-570921D8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D5392-D9E8-4F31-9640-CCAC537C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ADF01-1A13-4F5B-B8A5-0B8D5DBA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0129A-5991-4A9E-B30B-D1318E7DE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836CA-1789-4CCA-8EF7-14ECC6C97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5E1C7-B8F8-4736-939A-5FA6A72EF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1B45-EEE2-4818-8A45-845C861B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358EE-7477-44ED-86F4-8B227179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6E155-87F2-4664-9AA8-B44E69EF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C0E10-BFDF-4ED5-81FE-4701DBB0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2C8E0-6C6F-4EDF-8B60-148D901D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AD73A-CE8F-4F74-A4E9-1C30AD64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B3FE6-7483-43CC-9213-7C3CC935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561BF-383C-42D2-9D40-96FB9AB2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39B6D-B50F-49DB-A772-EAC42DC8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13233-7C23-4764-B67A-7D57C37C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47FCA-83C3-4FDC-9C82-A192BD733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4660-DD42-4877-9BEE-03E9E563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8E4F0-F0A9-47DD-8F57-2FA444847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D6769-005B-4719-AE2B-5A450B106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CCC58-B99E-405F-9E78-B17881E2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D7DA0-4908-4CF0-94A9-87F07563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69F87-98A6-4BDA-9768-B4D2D634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81862-1669-47A3-817F-E0A996F1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F8A8D-395F-4386-A582-983AD512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B5A97-8D46-46E2-9408-1CD2110B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886C4-39BC-4B34-8583-E5786776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E94D4-2734-4FA7-95A3-5FE62770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E249-B23C-44CE-A4E8-92467CF2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A3A10-29FC-489F-9369-85A50456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6364E-5F6C-496B-9C39-65F29EC91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4C683-9346-416C-9976-6918F731A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ECD1F-B830-4F46-B965-754388C71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F2FA3-A8A3-46BB-8A31-84A5AD96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5B686-0019-4088-ACAB-F1F84DFE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1EF1B-09B2-4BB4-B6E8-00B8B743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0D3EF-45C3-4BA4-A03E-D255368A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6EF3F-00EE-43E2-80B9-2877D118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FA0AE-890F-41E6-98DC-FCC59BA6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DBBF-EBAD-4973-8BAE-69FD2217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AAD40-1CF0-4DFC-ADD8-A3FE9614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A39BD-38FD-4A84-9866-F93193E0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F5999-9AAF-4F2E-960A-CFB4E2AA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B54D6-E2C7-4629-8BF0-E1B5B33F0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9C9B2-3DDD-4FC2-9F99-5B2A28B19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0A8BF-146B-48AD-A2A0-3B41A610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4CCD7-3D93-40CC-B6C8-45EF7122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FAF49-2E8D-4273-B8DE-3FD3A0B9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DAF7B-1491-421B-AA7D-10627F3F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D9141-F404-4AFA-A453-B6ED303A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C458-8BD3-413D-8F33-736BFC38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F1203-04B0-4998-8816-9E4D8FA7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CE20E-B590-46B7-97E9-C4402C46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77AC0-C2AA-4CB0-A7F2-A16BC47C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E0116-CC78-4E67-9CC3-171AEEE7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5CF41-6004-4553-AE8E-260ECF83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FBAC1-A2F0-44E0-ADC6-2829F83E4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E64F0-22A2-4182-AB98-01D2D0B10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74CB1-4C52-4229-857C-324848735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147DD-6959-4B54-B967-7EE9AA59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0D5BFA-56BE-43CE-B5AB-3FDE6673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F8BF-021B-4CC7-BEE1-A28AC933BC8D}" type="datetime2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Tuesday, 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6BD2-1849-4B5C-BC30-7F4ECD56C1A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0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0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0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8249-A987-476C-A07B-BF21C625DD1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EA74-7FD7-4318-A254-F20CEDC0BF67}" type="datetime2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Tuesday, 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0CCF-A5E5-42B4-84DE-20662E91D17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8675-355B-4F69-871A-6451078E8ED3}" type="datetime2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Tuesday, 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5002-9A32-458A-A0FF-F4222648AEF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31C9-005B-4AC3-AB54-B40DC44F19D5}" type="datetime2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Tuesday, 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CD20-350D-4959-93E5-F1D193F09EE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89A8-A6DD-47A0-B043-0EDD48E411D4}" type="datetime2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Tuesday, 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0995-9B65-49A5-A742-93BDFDBCB85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6422-D4B3-4178-8538-DA0352A9853B}" type="datetime2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Tuesday, 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0E5E-EA95-4F68-BD03-984C0036E17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5310-9D9E-4149-B121-6B34B391614F}" type="datetime2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Tuesday, 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A6C8-BCC8-421F-AC32-91FB191A447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84B3-3540-46F2-AF08-8737CE2E0CBD}" type="datetime2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Tuesday, 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2824-84D0-4250-98AC-F52BCF09930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4653-3CA6-47A1-9695-B6F593827147}" type="datetime2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Tuesday, 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E329-7FC6-42A0-8E44-50F70687D40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5"/>
          <p:cNvSpPr/>
          <p:nvPr/>
        </p:nvSpPr>
        <p:spPr>
          <a:xfrm>
            <a:off x="2240280" y="5535720"/>
            <a:ext cx="471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ума Ханты-Мансийского автономного округа – Ю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путатские слуш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013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Заголовок 1" descr=""/>
          <p:cNvPicPr/>
          <p:nvPr/>
        </p:nvPicPr>
        <p:blipFill>
          <a:blip r:embed="rId1"/>
          <a:stretch/>
        </p:blipFill>
        <p:spPr>
          <a:xfrm>
            <a:off x="324000" y="2548080"/>
            <a:ext cx="86868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9" name="Object 2"/>
          <p:cNvGraphicFramePr/>
          <p:nvPr/>
        </p:nvGraphicFramePr>
        <p:xfrm>
          <a:off x="468360" y="836640"/>
          <a:ext cx="8229600" cy="58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836640"/>
                    <a:ext cx="8229600" cy="58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1" name="Rectangle 3"/>
          <p:cNvSpPr/>
          <p:nvPr/>
        </p:nvSpPr>
        <p:spPr>
          <a:xfrm>
            <a:off x="1258920" y="189000"/>
            <a:ext cx="676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5"/>
          <p:cNvSpPr/>
          <p:nvPr/>
        </p:nvSpPr>
        <p:spPr>
          <a:xfrm>
            <a:off x="1134360" y="476280"/>
            <a:ext cx="74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Контроль качества оказан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0" y="115560"/>
            <a:ext cx="47721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32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контроля - 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дефектов медицинской помощи,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ющихся результатом несоответствия оказанной медицинской помощи состоянию здоровья застрахованного лица; невыполнения и / или неправильного выполнения порядков оказания медицинской помощи и / или стандартов медицинской помощи, медицинских технологий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м анализа наиболее распространенных нарушений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езультатам контроля и принятия мер уполномоченными органами. </a:t>
            </a: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just">
              <a:lnSpc>
                <a:spcPct val="100000"/>
              </a:lnSpc>
              <a:spcBef>
                <a:spcPts val="32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. 5.3  раздел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риказа от 01.12.2010г. № 230 «Об утверждении порядка организации и проведения контроля объемов, сроков, качества и условий предоставления медицинской помощи по обязательному медицинскому страхованию»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64" name="Picture 2" descr="\\Radiologiya\doc\Priemnaya\для Александры\ПРЕЗЕНТАЦИЯ\оаш.tif"/>
          <p:cNvPicPr/>
          <p:nvPr/>
        </p:nvPicPr>
        <p:blipFill>
          <a:blip r:embed="rId1"/>
          <a:stretch/>
        </p:blipFill>
        <p:spPr>
          <a:xfrm>
            <a:off x="4932360" y="189000"/>
            <a:ext cx="4103640" cy="290196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3" descr="\\Radiologiya\doc\Priemnaya\для Александры\ПРЕЗЕНТАЦИЯ\оаш2.tif"/>
          <p:cNvPicPr/>
          <p:nvPr/>
        </p:nvPicPr>
        <p:blipFill>
          <a:blip r:embed="rId2"/>
          <a:stretch/>
        </p:blipFill>
        <p:spPr>
          <a:xfrm>
            <a:off x="395280" y="3573360"/>
            <a:ext cx="4248000" cy="30243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6" descr="\\Radiologiya\doc\Priemnaya\для Александры\ПРЕЗЕНТАЦИЯ\оаш5.tif"/>
          <p:cNvPicPr/>
          <p:nvPr/>
        </p:nvPicPr>
        <p:blipFill>
          <a:blip r:embed="rId3"/>
          <a:stretch/>
        </p:blipFill>
        <p:spPr>
          <a:xfrm>
            <a:off x="4859280" y="3573360"/>
            <a:ext cx="41054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7" name=""/>
          <p:cNvGraphicFramePr/>
          <p:nvPr/>
        </p:nvGraphicFramePr>
        <p:xfrm>
          <a:off x="179280" y="1104840"/>
          <a:ext cx="8713800" cy="5710320"/>
        </p:xfrm>
        <a:graphic>
          <a:graphicData uri="http://schemas.openxmlformats.org/drawingml/2006/table">
            <a:tbl>
              <a:tblPr/>
              <a:tblGrid>
                <a:gridCol w="2664000"/>
                <a:gridCol w="2952720"/>
                <a:gridCol w="3097080"/>
              </a:tblGrid>
              <a:tr h="213480">
                <a:tc>
                  <a:txBody>
                    <a:bodyPr lIns="45720" rIns="45720" tIns="0" bIns="0" anchor="t">
                      <a:noAutofit/>
                    </a:bodyPr>
                    <a:p>
                      <a:pPr marL="225360"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жи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marL="225360"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ис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marL="225360"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струме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22480">
                <a:tc>
                  <a:txBody>
                    <a:bodyPr lIns="45720" rIns="45720" tIns="0" bIns="0" anchor="t">
                      <a:noAutofit/>
                    </a:bodyPr>
                    <a:p>
                      <a:pPr marL="225360" algn="just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ольшая самостоятельность учреждения в определении текущих приоритетов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 algn="just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интересованность в повышении эффективности деятельности за счет рационального использования ресурс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5720" rIns="45720" tIns="0" bIns="0" anchor="t">
                      <a:noAutofit/>
                    </a:bodyPr>
                    <a:p>
                      <a:pPr marL="225360" algn="just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сутствие окончательно сформированной нормативно-правовой баз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 algn="just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достаточность практических навыков административно управленческого персонала в сфере финансово-экономического менеджмента организации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 algn="just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сутствие  единых алгоритмов по формированию управленческого уче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45720" rIns="45720" tIns="0" bIns="0" anchor="t">
                      <a:noAutofit/>
                    </a:bodyPr>
                    <a:p>
                      <a:pPr marL="225360" algn="just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ирование системы  обучения административно-управленческого аппарата финансовым знаниям, навыкам оперативных решений в условиях изменяющейся внешней среды и ограниченности ресурс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 algn="just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 algn="just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учение возможности создания единого алгоритма формирования управленческого учета, поэтапного (от простого к сложному) его внедр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 algn="just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 algn="just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учение возможности (пилотный механизм) внедрения медицинских информационных систем с выходом на автоматическое формирование персонификации затрат на случай оказания медицинской помощ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33600">
                <a:tc>
                  <a:txBody>
                    <a:bodyPr lIns="45720" rIns="45720" tIns="0" bIns="0" anchor="t">
                      <a:noAutofit/>
                    </a:bodyPr>
                    <a:p>
                      <a:pPr marL="225360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55800">
                <a:tc gridSpan="2">
                  <a:txBody>
                    <a:bodyPr lIns="45720" rIns="45720" tIns="0" bIns="0" anchor="t">
                      <a:noAutofit/>
                    </a:bodyPr>
                    <a:p>
                      <a:pPr marL="225360"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ышение ответственности (компетентности) менеджмента учре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 принимаемые реш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4960">
                <a:tc gridSpan="2">
                  <a:txBody>
                    <a:bodyPr lIns="45720" rIns="45720" tIns="0" bIns="0" anchor="t">
                      <a:noAutofit/>
                    </a:bodyPr>
                    <a:p>
                      <a:pPr marL="2253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8" name="TextBox 4"/>
          <p:cNvSpPr/>
          <p:nvPr/>
        </p:nvSpPr>
        <p:spPr>
          <a:xfrm>
            <a:off x="2700360" y="404640"/>
            <a:ext cx="53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Организационные риск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9" name=""/>
          <p:cNvGraphicFramePr/>
          <p:nvPr/>
        </p:nvGraphicFramePr>
        <p:xfrm>
          <a:off x="179280" y="1268280"/>
          <a:ext cx="8785440" cy="5621400"/>
        </p:xfrm>
        <a:graphic>
          <a:graphicData uri="http://schemas.openxmlformats.org/drawingml/2006/table">
            <a:tbl>
              <a:tblPr/>
              <a:tblGrid>
                <a:gridCol w="2927520"/>
                <a:gridCol w="2930400"/>
                <a:gridCol w="2927520"/>
              </a:tblGrid>
              <a:tr h="225720">
                <a:tc>
                  <a:txBody>
                    <a:bodyPr lIns="45720" rIns="45720" tIns="0" bIns="0" anchor="t">
                      <a:noAutofit/>
                    </a:bodyPr>
                    <a:p>
                      <a:pPr marL="225360"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жи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marL="225360"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ис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marL="225360"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струме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30200">
                <a:tc>
                  <a:txBody>
                    <a:bodyPr lIns="45720" rIns="45720" tIns="0" bIns="0" anchor="t">
                      <a:noAutofit/>
                    </a:bodyPr>
                    <a:p>
                      <a:pPr marL="225360" algn="just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правление финансовыми ресурсами организации, на основе прогноза объема медицинской помощи в плановом период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 algn="just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marL="225360" algn="just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сопоставимость показателей планирования и способов оплаты (койко-день – КСГ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45720" rIns="45720" tIns="0" bIns="0" anchor="t">
                      <a:noAutofit/>
                    </a:bodyPr>
                    <a:p>
                      <a:pPr marL="225360" algn="just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ализовано в программе государственных гарантий на 2014 год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 algn="just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 algn="just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ирование на начальном этапе в условиях одноканального финансирования индивидуальных тарифов (реализовано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 algn="just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 algn="just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зможность разделения тарифа: оплата помощи – оплата содерж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 algn="just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 algn="just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зможность отражения различий обоснованных постоянных затрат на содержание в дифференцированном подушевом тарифе, с оплатой переменных затрат в составе тарифа за законченный случай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44720">
                <a:tc>
                  <a:txBody>
                    <a:bodyPr lIns="45720" rIns="45720" tIns="0" bIns="0" anchor="t">
                      <a:noAutofit/>
                    </a:bodyPr>
                    <a:p>
                      <a:pPr marL="225360" algn="just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зможность внутреннего бюджетирования (внутриучрежденческих  взаиморасчетов), направленного на повышение финансовой заинтересованности структурных подразделений и снижение необоснованных затра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marL="225360" algn="just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ожность нормирования затрат при формировании тарифной политики с учетом изначально различных «стартовых» позиций учреждений (кадровые ресурсы, состояние материально-технической базы, содержание инфраструктуры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0280">
                <a:tc>
                  <a:txBody>
                    <a:bodyPr lIns="45720" rIns="45720" tIns="0" bIns="0" anchor="t">
                      <a:noAutofit/>
                    </a:bodyPr>
                    <a:p>
                      <a:pPr marL="225360" algn="just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marL="225360" algn="just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0480">
                <a:tc>
                  <a:txBody>
                    <a:bodyPr lIns="45720" rIns="45720" tIns="0" bIns="0" anchor="t">
                      <a:noAutofit/>
                    </a:bodyPr>
                    <a:p>
                      <a:pPr marL="225360" algn="just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marL="225360" algn="just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0" name="TextBox 3"/>
          <p:cNvSpPr/>
          <p:nvPr/>
        </p:nvSpPr>
        <p:spPr>
          <a:xfrm>
            <a:off x="3132000" y="404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Финансовые ри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1" name=""/>
          <p:cNvGraphicFramePr/>
          <p:nvPr/>
        </p:nvGraphicFramePr>
        <p:xfrm>
          <a:off x="250920" y="1125360"/>
          <a:ext cx="8569080" cy="435312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411480">
                <a:tc>
                  <a:txBody>
                    <a:bodyPr lIns="45720" rIns="45720" tIns="0" bIns="0" anchor="t">
                      <a:noAutofit/>
                    </a:bodyPr>
                    <a:p>
                      <a:pPr marL="225360"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жи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marL="225360"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ис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marL="225360"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струме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25600">
                <a:tc>
                  <a:txBody>
                    <a:bodyPr lIns="45720" rIns="45720" tIns="0" bIns="0" anchor="t">
                      <a:noAutofit/>
                    </a:bodyPr>
                    <a:p>
                      <a:pPr marL="225360" algn="just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ышение качества и доступности медицинской помощи за счет усиления экспертной деятельности страховых компан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marL="225360" algn="just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ветственность, в первую очередь – административная, возложена не на непосредственного исполнителя, а на организатора медицинской помощи – на юридическое лиц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 algn="just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5720" rIns="45720" tIns="0" bIns="0" anchor="t">
                      <a:noAutofit/>
                    </a:bodyPr>
                    <a:p>
                      <a:pPr marL="225360" algn="just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ышение качества кадрового ресурса, в том числе через систему непрерывного обуч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 algn="just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 algn="just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ормирование  «здоровой» конкурентной экспертной среды с участием профессионального сообщества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 algn="just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 algn="just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изация системного мониторинга результат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6040">
                <a:tc gridSpan="2">
                  <a:txBody>
                    <a:bodyPr lIns="45720" rIns="45720" tIns="0" bIns="0" anchor="t">
                      <a:noAutofit/>
                    </a:bodyPr>
                    <a:p>
                      <a:pPr marL="225360" algn="ctr">
                        <a:lnSpc>
                          <a:spcPct val="10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обходимость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вершенствования внутренних экспертных мероприятий в учреждении, формирования качественно новой системы внутреннего ауди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2" name="Rectangle 2"/>
          <p:cNvSpPr/>
          <p:nvPr/>
        </p:nvSpPr>
        <p:spPr>
          <a:xfrm>
            <a:off x="324000" y="260280"/>
            <a:ext cx="8686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авовые ри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686800" cy="52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e3b30"/>
                </a:solidFill>
                <a:latin typeface="Franklin Gothic Medium"/>
              </a:rPr>
              <a:t> </a:t>
            </a:r>
            <a:br>
              <a:rPr sz="1400"/>
            </a:br>
            <a:r>
              <a:rPr b="1" lang="ru-RU" sz="1400" spc="-1" strike="noStrike">
                <a:solidFill>
                  <a:srgbClr val="4e3b30"/>
                </a:solidFill>
                <a:latin typeface="Franklin Gothic Medium"/>
              </a:rPr>
              <a:t> 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4e3b30"/>
                </a:solidFill>
                <a:latin typeface="Franklin Gothic Medium"/>
              </a:rPr>
              <a:t>БЕРНАРД ВЕБЕР</a:t>
            </a:r>
            <a:endParaRPr b="0" lang="en-US" sz="1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4" name="Прямоугольник 2"/>
          <p:cNvSpPr/>
          <p:nvPr/>
        </p:nvSpPr>
        <p:spPr>
          <a:xfrm>
            <a:off x="41040" y="2060640"/>
            <a:ext cx="8899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 Больше всего человека пугает неизвест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ак только эта неизвестность, пусть даже враждебна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1" lang="ru-RU" sz="2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идентифицирована, он чувствует облегчение»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5" descr="C:\Users\Администратор\Desktop\Безымянный 11.jpg"/>
          <p:cNvPicPr/>
          <p:nvPr/>
        </p:nvPicPr>
        <p:blipFill>
          <a:blip r:embed="rId1"/>
          <a:stretch/>
        </p:blipFill>
        <p:spPr>
          <a:xfrm>
            <a:off x="179280" y="1844640"/>
            <a:ext cx="8829720" cy="2736720"/>
          </a:xfrm>
          <a:prstGeom prst="rect">
            <a:avLst/>
          </a:prstGeom>
          <a:ln w="0">
            <a:noFill/>
          </a:ln>
        </p:spPr>
      </p:pic>
      <p:sp>
        <p:nvSpPr>
          <p:cNvPr id="576" name="TextBox 3"/>
          <p:cNvSpPr/>
          <p:nvPr/>
        </p:nvSpPr>
        <p:spPr>
          <a:xfrm>
            <a:off x="430200" y="5300640"/>
            <a:ext cx="862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03b14"/>
                </a:solidFill>
                <a:latin typeface="Comic Sans MS"/>
                <a:ea typeface="FangSong"/>
              </a:rPr>
              <a:t>С наступающим Новым годом и Рождеством Христовым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708360" y="2133000"/>
            <a:ext cx="525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Риски, связанные с принятием закона – перевод на одноканальное финансирование – огромные. Каким образом оно будет осуществляться, я до конца не понимаю. Так ощущение, что это все направлено на то, чтобы набросить нам на горло уздечку и затянуть потуж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8"/>
          <p:cNvSpPr/>
          <p:nvPr/>
        </p:nvSpPr>
        <p:spPr>
          <a:xfrm>
            <a:off x="6964920" y="47966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. Рош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6" descr="http://www.ktovmedicine.ru/img/images/leonid-roshal-doktor-foto-itar-tass.jpg"/>
          <p:cNvPicPr/>
          <p:nvPr/>
        </p:nvPicPr>
        <p:blipFill>
          <a:blip r:embed="rId1"/>
          <a:stretch/>
        </p:blipFill>
        <p:spPr>
          <a:xfrm>
            <a:off x="665280" y="1468440"/>
            <a:ext cx="307152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" descr="C:\Documents and Settings\user\Рабочий стол\Безымянный карта.JPG"/>
          <p:cNvPicPr/>
          <p:nvPr/>
        </p:nvPicPr>
        <p:blipFill>
          <a:blip r:embed="rId1"/>
          <a:stretch/>
        </p:blipFill>
        <p:spPr>
          <a:xfrm>
            <a:off x="250920" y="260280"/>
            <a:ext cx="8734320" cy="6362640"/>
          </a:xfrm>
          <a:prstGeom prst="rect">
            <a:avLst/>
          </a:prstGeom>
          <a:ln w="0">
            <a:noFill/>
          </a:ln>
        </p:spPr>
      </p:pic>
      <p:pic>
        <p:nvPicPr>
          <p:cNvPr id="462" name="Рисунок 8" descr=""/>
          <p:cNvPicPr/>
          <p:nvPr/>
        </p:nvPicPr>
        <p:blipFill>
          <a:blip r:embed="rId2"/>
          <a:stretch/>
        </p:blipFill>
        <p:spPr>
          <a:xfrm>
            <a:off x="6967440" y="1359000"/>
            <a:ext cx="981000" cy="793800"/>
          </a:xfrm>
          <a:prstGeom prst="rect">
            <a:avLst/>
          </a:prstGeom>
          <a:ln w="0">
            <a:noFill/>
          </a:ln>
        </p:spPr>
      </p:pic>
      <p:pic>
        <p:nvPicPr>
          <p:cNvPr id="463" name="Рисунок 8" descr=""/>
          <p:cNvPicPr/>
          <p:nvPr/>
        </p:nvPicPr>
        <p:blipFill>
          <a:blip r:embed="rId3"/>
          <a:stretch/>
        </p:blipFill>
        <p:spPr>
          <a:xfrm>
            <a:off x="7175520" y="4449600"/>
            <a:ext cx="925560" cy="744840"/>
          </a:xfrm>
          <a:prstGeom prst="rect">
            <a:avLst/>
          </a:prstGeom>
          <a:ln w="0">
            <a:noFill/>
          </a:ln>
        </p:spPr>
      </p:pic>
      <p:sp>
        <p:nvSpPr>
          <p:cNvPr id="464" name="Freeform 46"/>
          <p:cNvSpPr/>
          <p:nvPr/>
        </p:nvSpPr>
        <p:spPr>
          <a:xfrm>
            <a:off x="4643280" y="3716280"/>
            <a:ext cx="3673800" cy="1800360"/>
          </a:xfrm>
          <a:custGeom>
            <a:avLst/>
            <a:gdLst>
              <a:gd name="textAreaLeft" fmla="*/ 0 w 3673800"/>
              <a:gd name="textAreaRight" fmla="*/ 3674160 w 367380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2314" h="1134">
                <a:moveTo>
                  <a:pt x="0" y="0"/>
                </a:moveTo>
                <a:cubicBezTo>
                  <a:pt x="117" y="19"/>
                  <a:pt x="235" y="38"/>
                  <a:pt x="318" y="91"/>
                </a:cubicBezTo>
                <a:cubicBezTo>
                  <a:pt x="401" y="144"/>
                  <a:pt x="446" y="265"/>
                  <a:pt x="499" y="318"/>
                </a:cubicBezTo>
                <a:cubicBezTo>
                  <a:pt x="552" y="371"/>
                  <a:pt x="575" y="379"/>
                  <a:pt x="635" y="409"/>
                </a:cubicBezTo>
                <a:cubicBezTo>
                  <a:pt x="695" y="439"/>
                  <a:pt x="786" y="469"/>
                  <a:pt x="862" y="499"/>
                </a:cubicBezTo>
                <a:cubicBezTo>
                  <a:pt x="938" y="529"/>
                  <a:pt x="976" y="560"/>
                  <a:pt x="1089" y="590"/>
                </a:cubicBezTo>
                <a:cubicBezTo>
                  <a:pt x="1202" y="620"/>
                  <a:pt x="1430" y="636"/>
                  <a:pt x="1543" y="681"/>
                </a:cubicBezTo>
                <a:cubicBezTo>
                  <a:pt x="1656" y="726"/>
                  <a:pt x="1686" y="794"/>
                  <a:pt x="1769" y="862"/>
                </a:cubicBezTo>
                <a:cubicBezTo>
                  <a:pt x="1852" y="930"/>
                  <a:pt x="1951" y="1044"/>
                  <a:pt x="2042" y="1089"/>
                </a:cubicBezTo>
                <a:cubicBezTo>
                  <a:pt x="2133" y="1134"/>
                  <a:pt x="2223" y="1134"/>
                  <a:pt x="2314" y="113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47"/>
          <p:cNvSpPr/>
          <p:nvPr/>
        </p:nvSpPr>
        <p:spPr>
          <a:xfrm>
            <a:off x="8317080" y="5445000"/>
            <a:ext cx="142560" cy="144720"/>
          </a:xfrm>
          <a:prstGeom prst="ellipse">
            <a:avLst/>
          </a:prstGeom>
          <a:solidFill>
            <a:srgbClr val="ad1f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49"/>
          <p:cNvSpPr/>
          <p:nvPr/>
        </p:nvSpPr>
        <p:spPr>
          <a:xfrm>
            <a:off x="8317080" y="836640"/>
            <a:ext cx="142560" cy="144360"/>
          </a:xfrm>
          <a:prstGeom prst="ellipse">
            <a:avLst/>
          </a:prstGeom>
          <a:solidFill>
            <a:srgbClr val="ad1f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0"/>
          <p:cNvSpPr/>
          <p:nvPr/>
        </p:nvSpPr>
        <p:spPr>
          <a:xfrm>
            <a:off x="7742880" y="836640"/>
            <a:ext cx="62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яган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51"/>
          <p:cNvSpPr/>
          <p:nvPr/>
        </p:nvSpPr>
        <p:spPr>
          <a:xfrm>
            <a:off x="7669080" y="5157720"/>
            <a:ext cx="123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Ханты-Мансийс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Блок-схема: процесс 3"/>
          <p:cNvSpPr/>
          <p:nvPr/>
        </p:nvSpPr>
        <p:spPr>
          <a:xfrm>
            <a:off x="2050920" y="2349360"/>
            <a:ext cx="4465800" cy="3743640"/>
          </a:xfrm>
          <a:prstGeom prst="flowChartProcess">
            <a:avLst/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Равнобедренный треугольник 4"/>
          <p:cNvGrpSpPr/>
          <p:nvPr/>
        </p:nvGrpSpPr>
        <p:grpSpPr>
          <a:xfrm>
            <a:off x="2000160" y="1390680"/>
            <a:ext cx="4572000" cy="981000"/>
            <a:chOff x="2000160" y="1390680"/>
            <a:chExt cx="4572000" cy="981000"/>
          </a:xfrm>
        </p:grpSpPr>
        <p:pic>
          <p:nvPicPr>
            <p:cNvPr id="471" name="Равнобедренный треугольник 4" descr=""/>
            <p:cNvPicPr/>
            <p:nvPr/>
          </p:nvPicPr>
          <p:blipFill>
            <a:blip r:embed="rId1"/>
            <a:stretch/>
          </p:blipFill>
          <p:spPr>
            <a:xfrm>
              <a:off x="2000160" y="1390680"/>
              <a:ext cx="45720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3166920" y="1881360"/>
              <a:ext cx="2233800" cy="4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Блок-схема: процесс 7"/>
          <p:cNvSpPr/>
          <p:nvPr/>
        </p:nvSpPr>
        <p:spPr>
          <a:xfrm>
            <a:off x="5076720" y="5013360"/>
            <a:ext cx="1440000" cy="1079640"/>
          </a:xfrm>
          <a:prstGeom prst="flowChartProcess">
            <a:avLst/>
          </a:prstGeom>
          <a:solidFill>
            <a:srgbClr val="ffff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Блок-схема: процесс 8"/>
          <p:cNvSpPr/>
          <p:nvPr/>
        </p:nvSpPr>
        <p:spPr>
          <a:xfrm>
            <a:off x="5076720" y="3716280"/>
            <a:ext cx="1440000" cy="1297080"/>
          </a:xfrm>
          <a:prstGeom prst="flowChartProcess">
            <a:avLst/>
          </a:prstGeom>
          <a:solidFill>
            <a:srgbClr val="ff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Блок-схема: процесс 9"/>
          <p:cNvSpPr/>
          <p:nvPr/>
        </p:nvSpPr>
        <p:spPr>
          <a:xfrm>
            <a:off x="5076720" y="2349360"/>
            <a:ext cx="1440000" cy="1366920"/>
          </a:xfrm>
          <a:prstGeom prst="flowChartProcess">
            <a:avLst/>
          </a:prstGeom>
          <a:solidFill>
            <a:srgbClr val="ff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Блок-схема: процесс 10"/>
          <p:cNvSpPr/>
          <p:nvPr/>
        </p:nvSpPr>
        <p:spPr>
          <a:xfrm>
            <a:off x="2050920" y="2349360"/>
            <a:ext cx="3025800" cy="1366920"/>
          </a:xfrm>
          <a:prstGeom prst="flowChartProcess">
            <a:avLst/>
          </a:prstGeom>
          <a:noFill/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Блок-схема: процесс 12"/>
          <p:cNvSpPr/>
          <p:nvPr/>
        </p:nvSpPr>
        <p:spPr>
          <a:xfrm>
            <a:off x="2050920" y="5013360"/>
            <a:ext cx="1441440" cy="1079640"/>
          </a:xfrm>
          <a:prstGeom prst="flowChartProcess">
            <a:avLst/>
          </a:prstGeom>
          <a:solidFill>
            <a:srgbClr val="ffff00"/>
          </a:solidFill>
          <a:ln w="25560">
            <a:solidFill>
              <a:srgbClr val="c17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Рисунок 13" descr=""/>
          <p:cNvPicPr/>
          <p:nvPr/>
        </p:nvPicPr>
        <p:blipFill>
          <a:blip r:embed="rId2"/>
          <a:stretch/>
        </p:blipFill>
        <p:spPr>
          <a:xfrm>
            <a:off x="3851280" y="1628640"/>
            <a:ext cx="865080" cy="685800"/>
          </a:xfrm>
          <a:prstGeom prst="rect">
            <a:avLst/>
          </a:prstGeom>
          <a:ln w="0">
            <a:noFill/>
          </a:ln>
        </p:spPr>
      </p:pic>
      <p:pic>
        <p:nvPicPr>
          <p:cNvPr id="479" name="Рисунок 14" descr="\\Radiologiya\doc\Priemnaya\для Александры\ПРЕЗЕНТАЦИЯ\фото\IMG_1176.jpg"/>
          <p:cNvPicPr/>
          <p:nvPr/>
        </p:nvPicPr>
        <p:blipFill>
          <a:blip r:embed="rId3"/>
          <a:srcRect l="14206" t="0" r="11591" b="0"/>
          <a:stretch/>
        </p:blipFill>
        <p:spPr>
          <a:xfrm>
            <a:off x="250920" y="1413000"/>
            <a:ext cx="1441440" cy="1079280"/>
          </a:xfrm>
          <a:prstGeom prst="rect">
            <a:avLst/>
          </a:prstGeom>
          <a:ln w="0">
            <a:noFill/>
          </a:ln>
        </p:spPr>
      </p:pic>
      <p:sp>
        <p:nvSpPr>
          <p:cNvPr id="480" name="TextBox 16"/>
          <p:cNvSpPr/>
          <p:nvPr/>
        </p:nvSpPr>
        <p:spPr>
          <a:xfrm>
            <a:off x="183240" y="2565360"/>
            <a:ext cx="159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ужба детства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одовспом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Рисунок 17" descr="http://designdepot.ru/img/ru/papers_content/SK_id_01.jpg"/>
          <p:cNvPicPr/>
          <p:nvPr/>
        </p:nvPicPr>
        <p:blipFill>
          <a:blip r:embed="rId4"/>
          <a:srcRect l="10427" t="7748" r="58256" b="9425"/>
          <a:stretch/>
        </p:blipFill>
        <p:spPr>
          <a:xfrm>
            <a:off x="250920" y="3141720"/>
            <a:ext cx="1368360" cy="1079280"/>
          </a:xfrm>
          <a:prstGeom prst="rect">
            <a:avLst/>
          </a:prstGeom>
          <a:ln w="0">
            <a:noFill/>
          </a:ln>
        </p:spPr>
      </p:pic>
      <p:sp>
        <p:nvSpPr>
          <p:cNvPr id="482" name="TextBox 18"/>
          <p:cNvSpPr/>
          <p:nvPr/>
        </p:nvSpPr>
        <p:spPr>
          <a:xfrm>
            <a:off x="250920" y="4292640"/>
            <a:ext cx="151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ужба донорства кров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Рисунок 19" descr="http://www.transportispectehnika.ru/sales/dealers/901c207.jpeg"/>
          <p:cNvPicPr/>
          <p:nvPr/>
        </p:nvPicPr>
        <p:blipFill>
          <a:blip r:embed="rId5"/>
          <a:stretch/>
        </p:blipFill>
        <p:spPr>
          <a:xfrm>
            <a:off x="250920" y="5013360"/>
            <a:ext cx="1368360" cy="990720"/>
          </a:xfrm>
          <a:prstGeom prst="rect">
            <a:avLst/>
          </a:prstGeom>
          <a:ln w="0">
            <a:noFill/>
          </a:ln>
        </p:spPr>
      </p:pic>
      <p:sp>
        <p:nvSpPr>
          <p:cNvPr id="484" name="Прямоугольник 20"/>
          <p:cNvSpPr/>
          <p:nvPr/>
        </p:nvSpPr>
        <p:spPr>
          <a:xfrm>
            <a:off x="261720" y="6093000"/>
            <a:ext cx="1877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кор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дицинская помощ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Рисунок 22" descr="http://www.teraskop.ru/data/image/catalog/photo_0010935001208177976.jpg"/>
          <p:cNvPicPr/>
          <p:nvPr/>
        </p:nvPicPr>
        <p:blipFill>
          <a:blip r:embed="rId6"/>
          <a:stretch/>
        </p:blipFill>
        <p:spPr>
          <a:xfrm>
            <a:off x="7380360" y="1413000"/>
            <a:ext cx="1450800" cy="1079280"/>
          </a:xfrm>
          <a:prstGeom prst="rect">
            <a:avLst/>
          </a:prstGeom>
          <a:ln w="0">
            <a:noFill/>
          </a:ln>
        </p:spPr>
      </p:pic>
      <p:sp>
        <p:nvSpPr>
          <p:cNvPr id="486" name="Прямоугольник 23"/>
          <p:cNvSpPr/>
          <p:nvPr/>
        </p:nvSpPr>
        <p:spPr>
          <a:xfrm>
            <a:off x="6882480" y="2565360"/>
            <a:ext cx="21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раклиническая служб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Рисунок 24" descr="http://www.sfatulmedicului.ro/external/uploads/clinici/produse/1851/poza3586.jpg"/>
          <p:cNvPicPr/>
          <p:nvPr/>
        </p:nvPicPr>
        <p:blipFill>
          <a:blip r:embed="rId7"/>
          <a:stretch/>
        </p:blipFill>
        <p:spPr>
          <a:xfrm>
            <a:off x="7380360" y="3068640"/>
            <a:ext cx="1439640" cy="1152360"/>
          </a:xfrm>
          <a:prstGeom prst="rect">
            <a:avLst/>
          </a:prstGeom>
          <a:ln w="0">
            <a:noFill/>
          </a:ln>
        </p:spPr>
      </p:pic>
      <p:sp>
        <p:nvSpPr>
          <p:cNvPr id="488" name="Прямоугольник 25"/>
          <p:cNvSpPr/>
          <p:nvPr/>
        </p:nvSpPr>
        <p:spPr>
          <a:xfrm>
            <a:off x="6813360" y="4292640"/>
            <a:ext cx="21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ликлиническая помощ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Рисунок 26" descr="http://vyvod-zapoya.ru/images/10.04/sta3.png"/>
          <p:cNvPicPr/>
          <p:nvPr/>
        </p:nvPicPr>
        <p:blipFill>
          <a:blip r:embed="rId8"/>
          <a:stretch/>
        </p:blipFill>
        <p:spPr>
          <a:xfrm>
            <a:off x="7236000" y="4941720"/>
            <a:ext cx="1512720" cy="1008360"/>
          </a:xfrm>
          <a:prstGeom prst="rect">
            <a:avLst/>
          </a:prstGeom>
          <a:ln w="0">
            <a:noFill/>
          </a:ln>
        </p:spPr>
      </p:pic>
      <p:sp>
        <p:nvSpPr>
          <p:cNvPr id="490" name="Прямоугольник 27"/>
          <p:cNvSpPr/>
          <p:nvPr/>
        </p:nvSpPr>
        <p:spPr>
          <a:xfrm>
            <a:off x="6886440" y="6165720"/>
            <a:ext cx="191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ационарная помощ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Блок-схема: процесс 28"/>
          <p:cNvSpPr/>
          <p:nvPr/>
        </p:nvSpPr>
        <p:spPr>
          <a:xfrm>
            <a:off x="3492360" y="5013360"/>
            <a:ext cx="1584360" cy="1079640"/>
          </a:xfrm>
          <a:prstGeom prst="flowChartProcess">
            <a:avLst/>
          </a:prstGeom>
          <a:solidFill>
            <a:srgbClr val="ffff00"/>
          </a:solidFill>
          <a:ln w="25560">
            <a:solidFill>
              <a:srgbClr val="c175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Блок-схема: процесс 29"/>
          <p:cNvSpPr/>
          <p:nvPr/>
        </p:nvSpPr>
        <p:spPr>
          <a:xfrm>
            <a:off x="2050920" y="3716280"/>
            <a:ext cx="3025800" cy="1297080"/>
          </a:xfrm>
          <a:prstGeom prst="flowChartProcess">
            <a:avLst/>
          </a:prstGeom>
          <a:solidFill>
            <a:srgbClr val="c17529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Блок-схема: процесс 23"/>
          <p:cNvSpPr/>
          <p:nvPr/>
        </p:nvSpPr>
        <p:spPr>
          <a:xfrm>
            <a:off x="2050920" y="2349360"/>
            <a:ext cx="3025800" cy="1366920"/>
          </a:xfrm>
          <a:prstGeom prst="flowChartProcess">
            <a:avLst/>
          </a:prstGeom>
          <a:solidFill>
            <a:srgbClr val="c17529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оугольник 24"/>
          <p:cNvSpPr/>
          <p:nvPr/>
        </p:nvSpPr>
        <p:spPr>
          <a:xfrm>
            <a:off x="2268360" y="549360"/>
            <a:ext cx="41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Структура</a:t>
            </a:r>
            <a:r>
              <a:rPr b="1" lang="ru-RU" sz="18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учре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оугольник 25"/>
          <p:cNvSpPr/>
          <p:nvPr/>
        </p:nvSpPr>
        <p:spPr>
          <a:xfrm>
            <a:off x="2268360" y="5300640"/>
            <a:ext cx="41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Финансирование за счет средств бюдж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оугольник 26"/>
          <p:cNvSpPr/>
          <p:nvPr/>
        </p:nvSpPr>
        <p:spPr>
          <a:xfrm>
            <a:off x="2124000" y="3284640"/>
            <a:ext cx="29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разделения со смешанным финансирова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оугольник 27"/>
          <p:cNvSpPr/>
          <p:nvPr/>
        </p:nvSpPr>
        <p:spPr>
          <a:xfrm rot="16200000">
            <a:off x="4542480" y="3386880"/>
            <a:ext cx="2512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Финансирование за счет средств ОМ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Object 2" descr=""/>
          <p:cNvPicPr/>
          <p:nvPr/>
        </p:nvPicPr>
        <p:blipFill>
          <a:blip r:embed="rId1"/>
          <a:stretch/>
        </p:blipFill>
        <p:spPr>
          <a:xfrm>
            <a:off x="279360" y="3289320"/>
            <a:ext cx="8864640" cy="356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9" name="Object 13"/>
          <p:cNvGraphicFramePr/>
          <p:nvPr/>
        </p:nvGraphicFramePr>
        <p:xfrm>
          <a:off x="343080" y="981000"/>
          <a:ext cx="8800920" cy="24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0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3080" y="981000"/>
                    <a:ext cx="8800920" cy="24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501" name="AutoShape 3"/>
          <p:cNvCxnSpPr/>
          <p:nvPr/>
        </p:nvCxnSpPr>
        <p:spPr>
          <a:xfrm>
            <a:off x="279000" y="50731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2" name="Rectangle 4"/>
          <p:cNvSpPr/>
          <p:nvPr/>
        </p:nvSpPr>
        <p:spPr>
          <a:xfrm>
            <a:off x="611280" y="620640"/>
            <a:ext cx="79214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Times New Roman"/>
              </a:rPr>
              <a:t>Деятельность стацион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5"/>
          <p:cNvSpPr/>
          <p:nvPr/>
        </p:nvSpPr>
        <p:spPr>
          <a:xfrm>
            <a:off x="1692360" y="4941720"/>
            <a:ext cx="360360" cy="21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,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2124000" y="5950080"/>
            <a:ext cx="360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7"/>
          <p:cNvSpPr/>
          <p:nvPr/>
        </p:nvSpPr>
        <p:spPr>
          <a:xfrm>
            <a:off x="2556000" y="5516640"/>
            <a:ext cx="43164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8"/>
          <p:cNvSpPr/>
          <p:nvPr/>
        </p:nvSpPr>
        <p:spPr>
          <a:xfrm>
            <a:off x="4211640" y="4941720"/>
            <a:ext cx="289080" cy="21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,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9"/>
          <p:cNvSpPr/>
          <p:nvPr/>
        </p:nvSpPr>
        <p:spPr>
          <a:xfrm>
            <a:off x="4716360" y="5950080"/>
            <a:ext cx="28728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0"/>
          <p:cNvSpPr/>
          <p:nvPr/>
        </p:nvSpPr>
        <p:spPr>
          <a:xfrm>
            <a:off x="5148360" y="5589720"/>
            <a:ext cx="360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1"/>
          <p:cNvSpPr/>
          <p:nvPr/>
        </p:nvSpPr>
        <p:spPr>
          <a:xfrm>
            <a:off x="6732720" y="4941720"/>
            <a:ext cx="287280" cy="21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2"/>
          <p:cNvSpPr/>
          <p:nvPr/>
        </p:nvSpPr>
        <p:spPr>
          <a:xfrm>
            <a:off x="7667640" y="5661000"/>
            <a:ext cx="28908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,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5435640" y="4221000"/>
            <a:ext cx="358560" cy="28908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7020000" y="4221000"/>
            <a:ext cx="360360" cy="28908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,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6"/>
          <p:cNvSpPr/>
          <p:nvPr/>
        </p:nvSpPr>
        <p:spPr>
          <a:xfrm>
            <a:off x="1353960" y="549360"/>
            <a:ext cx="748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Times New Roman"/>
                <a:ea typeface="Times New Roman"/>
              </a:rPr>
              <a:t>Деятельность амбулаторно-поликлинического зв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Object 2"/>
          <p:cNvGraphicFramePr/>
          <p:nvPr/>
        </p:nvGraphicFramePr>
        <p:xfrm>
          <a:off x="3675240" y="2508120"/>
          <a:ext cx="5468760" cy="434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75240" y="2508120"/>
                    <a:ext cx="5468760" cy="434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6" name="Picture 7" descr="\\Radiologiya\doc\Priemnaya\для Александры\ПРЕЗЕНТАЦИЯ\фото\IMG_1660.jpg"/>
          <p:cNvPicPr/>
          <p:nvPr/>
        </p:nvPicPr>
        <p:blipFill>
          <a:blip r:embed="rId3"/>
          <a:stretch/>
        </p:blipFill>
        <p:spPr>
          <a:xfrm>
            <a:off x="324000" y="1484280"/>
            <a:ext cx="3317760" cy="40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2"/>
          <p:cNvSpPr/>
          <p:nvPr/>
        </p:nvSpPr>
        <p:spPr>
          <a:xfrm>
            <a:off x="1834200" y="404640"/>
            <a:ext cx="62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Times New Roman"/>
              </a:rPr>
              <a:t>Деятельность скор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75"/>
          <p:cNvSpPr/>
          <p:nvPr/>
        </p:nvSpPr>
        <p:spPr>
          <a:xfrm>
            <a:off x="539640" y="551664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011 - 0,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76"/>
          <p:cNvSpPr/>
          <p:nvPr/>
        </p:nvSpPr>
        <p:spPr>
          <a:xfrm>
            <a:off x="2268360" y="551664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012 - 0,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Object 2"/>
          <p:cNvGraphicFramePr/>
          <p:nvPr/>
        </p:nvGraphicFramePr>
        <p:xfrm>
          <a:off x="0" y="1052640"/>
          <a:ext cx="5580000" cy="38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52640"/>
                    <a:ext cx="5580000" cy="38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Rectangle 9"/>
          <p:cNvSpPr/>
          <p:nvPr/>
        </p:nvSpPr>
        <p:spPr>
          <a:xfrm>
            <a:off x="539640" y="4941720"/>
            <a:ext cx="288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личество вызов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1 жител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3" descr="C:\Documents and Settings\user\Рабочий стол\Безымянный 1233456.bmp"/>
          <p:cNvPicPr/>
          <p:nvPr/>
        </p:nvPicPr>
        <p:blipFill>
          <a:blip r:embed="rId3"/>
          <a:srcRect l="0" t="0" r="27658" b="0"/>
          <a:stretch/>
        </p:blipFill>
        <p:spPr>
          <a:xfrm>
            <a:off x="4467240" y="3716280"/>
            <a:ext cx="456876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5"/>
          <p:cNvSpPr/>
          <p:nvPr/>
        </p:nvSpPr>
        <p:spPr>
          <a:xfrm>
            <a:off x="2556000" y="62064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Times New Roman"/>
              </a:rPr>
              <a:t>Структура финанс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Диаграмма 4" descr=""/>
          <p:cNvPicPr/>
          <p:nvPr/>
        </p:nvPicPr>
        <p:blipFill>
          <a:blip r:embed="rId1"/>
          <a:stretch/>
        </p:blipFill>
        <p:spPr>
          <a:xfrm>
            <a:off x="-50760" y="1074600"/>
            <a:ext cx="5286240" cy="3197520"/>
          </a:xfrm>
          <a:prstGeom prst="rect">
            <a:avLst/>
          </a:prstGeom>
          <a:ln w="0">
            <a:noFill/>
          </a:ln>
        </p:spPr>
      </p:pic>
      <p:pic>
        <p:nvPicPr>
          <p:cNvPr id="526" name="Диаграмма 7" descr=""/>
          <p:cNvPicPr/>
          <p:nvPr/>
        </p:nvPicPr>
        <p:blipFill>
          <a:blip r:embed="rId2"/>
          <a:stretch/>
        </p:blipFill>
        <p:spPr>
          <a:xfrm>
            <a:off x="3081240" y="3594240"/>
            <a:ext cx="6113520" cy="331452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5"/>
          <p:cNvSpPr/>
          <p:nvPr/>
        </p:nvSpPr>
        <p:spPr>
          <a:xfrm>
            <a:off x="4572000" y="400536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5"/>
          <p:cNvSpPr/>
          <p:nvPr/>
        </p:nvSpPr>
        <p:spPr>
          <a:xfrm>
            <a:off x="1332000" y="270828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2484360" y="285264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3708360" y="299736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5"/>
          <p:cNvSpPr/>
          <p:nvPr/>
        </p:nvSpPr>
        <p:spPr>
          <a:xfrm>
            <a:off x="1476360" y="162864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2411280" y="148428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3564000" y="141300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5508720" y="393372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6588000" y="3860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4356000" y="53737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5508720" y="5445000"/>
            <a:ext cx="3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6659640" y="55897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3b14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Блок-схема: процесс 30"/>
          <p:cNvSpPr/>
          <p:nvPr/>
        </p:nvSpPr>
        <p:spPr>
          <a:xfrm>
            <a:off x="971640" y="1197000"/>
            <a:ext cx="7272360" cy="287280"/>
          </a:xfrm>
          <a:prstGeom prst="flowChartProcess">
            <a:avLst/>
          </a:prstGeom>
          <a:solidFill>
            <a:srgbClr val="fbeec9"/>
          </a:solidFill>
          <a:ln w="25560">
            <a:solidFill>
              <a:srgbClr val="a564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альный плате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0" name="Прямая со стрелкой 34"/>
          <p:cNvCxnSpPr/>
          <p:nvPr/>
        </p:nvCxnSpPr>
        <p:spPr>
          <a:xfrm>
            <a:off x="1834920" y="1557360"/>
            <a:ext cx="1080" cy="288000"/>
          </a:xfrm>
          <a:prstGeom prst="straightConnector1">
            <a:avLst/>
          </a:prstGeom>
          <a:ln w="9360">
            <a:solidFill>
              <a:srgbClr val="ef9f28"/>
            </a:solidFill>
            <a:miter/>
            <a:tailEnd len="med" type="arrow" w="med"/>
          </a:ln>
        </p:spPr>
      </p:cxnSp>
      <p:sp>
        <p:nvSpPr>
          <p:cNvPr id="541" name="Прямоугольник 36"/>
          <p:cNvSpPr/>
          <p:nvPr/>
        </p:nvSpPr>
        <p:spPr>
          <a:xfrm>
            <a:off x="971640" y="1844640"/>
            <a:ext cx="1800000" cy="792360"/>
          </a:xfrm>
          <a:prstGeom prst="rect">
            <a:avLst/>
          </a:prstGeom>
          <a:solidFill>
            <a:srgbClr val="0039ac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ринимательск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Прямоугольник 38"/>
          <p:cNvSpPr/>
          <p:nvPr/>
        </p:nvSpPr>
        <p:spPr>
          <a:xfrm>
            <a:off x="4716360" y="4869000"/>
            <a:ext cx="1440000" cy="79200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Franklin Gothic Book"/>
              </a:rPr>
              <a:t>Поликли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Прямоугольник 39"/>
          <p:cNvSpPr/>
          <p:nvPr/>
        </p:nvSpPr>
        <p:spPr>
          <a:xfrm>
            <a:off x="3419640" y="4005360"/>
            <a:ext cx="122544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оугольник 40"/>
          <p:cNvSpPr/>
          <p:nvPr/>
        </p:nvSpPr>
        <p:spPr>
          <a:xfrm>
            <a:off x="4427640" y="6021360"/>
            <a:ext cx="86508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Прямоугольник 41"/>
          <p:cNvSpPr/>
          <p:nvPr/>
        </p:nvSpPr>
        <p:spPr>
          <a:xfrm>
            <a:off x="2411280" y="2997360"/>
            <a:ext cx="1224000" cy="718920"/>
          </a:xfrm>
          <a:prstGeom prst="rect">
            <a:avLst/>
          </a:prstGeom>
          <a:solidFill>
            <a:srgbClr val="ffff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Прямоугольник 42"/>
          <p:cNvSpPr/>
          <p:nvPr/>
        </p:nvSpPr>
        <p:spPr>
          <a:xfrm>
            <a:off x="5437080" y="6021360"/>
            <a:ext cx="863640" cy="576360"/>
          </a:xfrm>
          <a:prstGeom prst="rect">
            <a:avLst/>
          </a:prstGeom>
          <a:solidFill>
            <a:srgbClr val="ff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рямоугольник 43"/>
          <p:cNvSpPr/>
          <p:nvPr/>
        </p:nvSpPr>
        <p:spPr>
          <a:xfrm>
            <a:off x="6659640" y="4869000"/>
            <a:ext cx="1584360" cy="79200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оугольник 44"/>
          <p:cNvSpPr/>
          <p:nvPr/>
        </p:nvSpPr>
        <p:spPr>
          <a:xfrm>
            <a:off x="6586560" y="6021360"/>
            <a:ext cx="793800" cy="576360"/>
          </a:xfrm>
          <a:prstGeom prst="rect">
            <a:avLst/>
          </a:prstGeom>
          <a:solidFill>
            <a:srgbClr val="ffff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Прямоугольник 45"/>
          <p:cNvSpPr/>
          <p:nvPr/>
        </p:nvSpPr>
        <p:spPr>
          <a:xfrm>
            <a:off x="7524720" y="6021360"/>
            <a:ext cx="792360" cy="576360"/>
          </a:xfrm>
          <a:prstGeom prst="rect">
            <a:avLst/>
          </a:prstGeom>
          <a:solidFill>
            <a:srgbClr val="ff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0" name="Прямая со стрелкой 46"/>
          <p:cNvCxnSpPr/>
          <p:nvPr/>
        </p:nvCxnSpPr>
        <p:spPr>
          <a:xfrm>
            <a:off x="3058920" y="1557360"/>
            <a:ext cx="1080" cy="1440360"/>
          </a:xfrm>
          <a:prstGeom prst="straightConnector1">
            <a:avLst/>
          </a:prstGeom>
          <a:ln w="9360">
            <a:solidFill>
              <a:srgbClr val="ef9f28"/>
            </a:solidFill>
            <a:miter/>
            <a:tailEnd len="med" type="arrow" w="med"/>
          </a:ln>
        </p:spPr>
      </p:cxnSp>
      <p:cxnSp>
        <p:nvCxnSpPr>
          <p:cNvPr id="551" name="Прямая со стрелкой 48"/>
          <p:cNvCxnSpPr/>
          <p:nvPr/>
        </p:nvCxnSpPr>
        <p:spPr>
          <a:xfrm>
            <a:off x="4140000" y="1557360"/>
            <a:ext cx="1080" cy="2448720"/>
          </a:xfrm>
          <a:prstGeom prst="straightConnector1">
            <a:avLst/>
          </a:prstGeom>
          <a:ln w="9360">
            <a:solidFill>
              <a:srgbClr val="ef9f28"/>
            </a:solidFill>
            <a:miter/>
            <a:tailEnd len="med" type="arrow" w="med"/>
          </a:ln>
        </p:spPr>
      </p:cxnSp>
      <p:cxnSp>
        <p:nvCxnSpPr>
          <p:cNvPr id="552" name="Прямая со стрелкой 51"/>
          <p:cNvCxnSpPr>
            <a:endCxn id="542" idx="0"/>
          </p:cNvCxnSpPr>
          <p:nvPr/>
        </p:nvCxnSpPr>
        <p:spPr>
          <a:xfrm flipH="1">
            <a:off x="5434920" y="1557000"/>
            <a:ext cx="1080" cy="3312360"/>
          </a:xfrm>
          <a:prstGeom prst="straightConnector1">
            <a:avLst/>
          </a:prstGeom>
          <a:ln w="9360">
            <a:solidFill>
              <a:srgbClr val="ef9f28"/>
            </a:solidFill>
            <a:miter/>
            <a:tailEnd len="med" type="arrow" w="med"/>
          </a:ln>
        </p:spPr>
      </p:cxnSp>
      <p:cxnSp>
        <p:nvCxnSpPr>
          <p:cNvPr id="553" name="Прямая со стрелкой 60"/>
          <p:cNvCxnSpPr>
            <a:endCxn id="547" idx="0"/>
          </p:cNvCxnSpPr>
          <p:nvPr/>
        </p:nvCxnSpPr>
        <p:spPr>
          <a:xfrm>
            <a:off x="7381800" y="1557000"/>
            <a:ext cx="70200" cy="3312360"/>
          </a:xfrm>
          <a:prstGeom prst="straightConnector1">
            <a:avLst/>
          </a:prstGeom>
          <a:ln w="9360">
            <a:solidFill>
              <a:srgbClr val="ef9f28"/>
            </a:solidFill>
            <a:miter/>
            <a:tailEnd len="med" type="arrow" w="med"/>
          </a:ln>
        </p:spPr>
      </p:cxnSp>
      <p:cxnSp>
        <p:nvCxnSpPr>
          <p:cNvPr id="554" name="Прямая со стрелкой 63"/>
          <p:cNvCxnSpPr/>
          <p:nvPr/>
        </p:nvCxnSpPr>
        <p:spPr>
          <a:xfrm flipH="1">
            <a:off x="5002920" y="5660640"/>
            <a:ext cx="1080" cy="361080"/>
          </a:xfrm>
          <a:prstGeom prst="straightConnector1">
            <a:avLst/>
          </a:prstGeom>
          <a:ln w="9360">
            <a:solidFill>
              <a:srgbClr val="ef9f28"/>
            </a:solidFill>
            <a:miter/>
            <a:tailEnd len="med" type="arrow" w="med"/>
          </a:ln>
        </p:spPr>
      </p:cxnSp>
      <p:cxnSp>
        <p:nvCxnSpPr>
          <p:cNvPr id="555" name="Прямая со стрелкой 65"/>
          <p:cNvCxnSpPr/>
          <p:nvPr/>
        </p:nvCxnSpPr>
        <p:spPr>
          <a:xfrm>
            <a:off x="5724000" y="5660640"/>
            <a:ext cx="1080" cy="361080"/>
          </a:xfrm>
          <a:prstGeom prst="straightConnector1">
            <a:avLst/>
          </a:prstGeom>
          <a:ln w="9360">
            <a:solidFill>
              <a:srgbClr val="ef9f28"/>
            </a:solidFill>
            <a:miter/>
            <a:tailEnd len="med" type="arrow" w="med"/>
          </a:ln>
        </p:spPr>
      </p:cxnSp>
      <p:sp>
        <p:nvSpPr>
          <p:cNvPr id="556" name="Text Box 5"/>
          <p:cNvSpPr/>
          <p:nvPr/>
        </p:nvSpPr>
        <p:spPr>
          <a:xfrm>
            <a:off x="971640" y="62064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3b14"/>
                </a:solidFill>
                <a:latin typeface="Times New Roman"/>
              </a:rPr>
              <a:t>Организация управленческого уч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7" name="Прямая со стрелкой 57"/>
          <p:cNvCxnSpPr/>
          <p:nvPr/>
        </p:nvCxnSpPr>
        <p:spPr>
          <a:xfrm>
            <a:off x="7019640" y="5660640"/>
            <a:ext cx="1080" cy="361080"/>
          </a:xfrm>
          <a:prstGeom prst="straightConnector1">
            <a:avLst/>
          </a:prstGeom>
          <a:ln w="9360">
            <a:solidFill>
              <a:srgbClr val="ef9f28"/>
            </a:solidFill>
            <a:miter/>
            <a:tailEnd len="med" type="arrow" w="med"/>
          </a:ln>
        </p:spPr>
      </p:cxnSp>
      <p:cxnSp>
        <p:nvCxnSpPr>
          <p:cNvPr id="558" name="Прямая со стрелкой 58"/>
          <p:cNvCxnSpPr/>
          <p:nvPr/>
        </p:nvCxnSpPr>
        <p:spPr>
          <a:xfrm>
            <a:off x="7884720" y="5660640"/>
            <a:ext cx="1080" cy="361080"/>
          </a:xfrm>
          <a:prstGeom prst="straightConnector1">
            <a:avLst/>
          </a:prstGeom>
          <a:ln w="9360">
            <a:solidFill>
              <a:srgbClr val="ef9f2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3-12-03T10:59:08Z</dcterms:modified>
  <cp:revision>14</cp:revision>
  <dc:subject/>
  <dc:title>Слайд 1</dc:title>
</cp:coreProperties>
</file>